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677-8289-4490-B745-81137D86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A692-21D1-43F3-8C47-A1DE469B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221-7254-4474-8E7A-EC1094B8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5E5-2DCF-4EE9-916B-0EC1D160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5C94-B7C6-4660-876F-F0738EE9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E50-CA31-4C46-A2AD-48C2A69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934-2FA1-4920-96E8-250FA876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411-DA26-4D11-A308-6937BE0E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15D-7CC4-49E1-88CC-E90D882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F82-6EE2-49F3-AAB0-10BC4B0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735-B2DD-4484-BFA1-B5D4F88D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7A3-3D6F-4015-AF0A-1161B23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70B7-A360-4FE9-94BB-6ED1413CE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year1shopfitting.wikispaces.com/Geometry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5651640" y="1628640"/>
            <a:ext cx="30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ellipse using the concentric circle method you will need to know the length of the “X” axis and the length of the “Y”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30760" y="3798720"/>
            <a:ext cx="319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. set out the length of the “X” axis – “X” is the longest ax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24640" y="4863960"/>
            <a:ext cx="319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. Bisect the “X” axis – open compass out to more then ½ the length and describe an arc from each end of the “X” 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1968480"/>
            <a:ext cx="2324160" cy="1816200"/>
          </a:xfrm>
          <a:custGeom>
            <a:avLst/>
            <a:gdLst/>
            <a:ahLst/>
            <a:rect l="l" t="t" r="r" b="b"/>
            <a:pathLst>
              <a:path w="1464" h="1144">
                <a:moveTo>
                  <a:pt x="0" y="1144"/>
                </a:moveTo>
                <a:lnTo>
                  <a:pt x="856" y="0"/>
                </a:lnTo>
                <a:lnTo>
                  <a:pt x="1464" y="1144"/>
                </a:lnTo>
                <a:lnTo>
                  <a:pt x="856" y="136"/>
                </a:lnTo>
                <a:lnTo>
                  <a:pt x="0" y="114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52480" y="1957320"/>
            <a:ext cx="2324160" cy="1816200"/>
          </a:xfrm>
          <a:custGeom>
            <a:avLst/>
            <a:gdLst/>
            <a:ahLst/>
            <a:rect l="l" t="t" r="r" b="b"/>
            <a:pathLst>
              <a:path w="1464" h="1144">
                <a:moveTo>
                  <a:pt x="0" y="1144"/>
                </a:moveTo>
                <a:lnTo>
                  <a:pt x="856" y="0"/>
                </a:lnTo>
                <a:lnTo>
                  <a:pt x="1464" y="1144"/>
                </a:lnTo>
                <a:lnTo>
                  <a:pt x="856" y="136"/>
                </a:lnTo>
                <a:lnTo>
                  <a:pt x="0" y="114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1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52920" y="1474920"/>
            <a:ext cx="31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. Set out the length of the “Y” axis – “Y” is the shortest axis. Mark off the length of the “Y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25600"/>
            <a:ext cx="533520" cy="2916360"/>
          </a:xfrm>
          <a:custGeom>
            <a:avLst/>
            <a:gdLst/>
            <a:ahLst/>
            <a:rect l="l" t="t" r="r" b="b"/>
            <a:pathLst>
              <a:path w="336" h="1837">
                <a:moveTo>
                  <a:pt x="328" y="0"/>
                </a:moveTo>
                <a:cubicBezTo>
                  <a:pt x="294" y="55"/>
                  <a:pt x="194" y="179"/>
                  <a:pt x="126" y="333"/>
                </a:cubicBezTo>
                <a:cubicBezTo>
                  <a:pt x="58" y="487"/>
                  <a:pt x="0" y="737"/>
                  <a:pt x="2" y="921"/>
                </a:cubicBezTo>
                <a:cubicBezTo>
                  <a:pt x="4" y="1105"/>
                  <a:pt x="54" y="1309"/>
                  <a:pt x="104" y="1445"/>
                </a:cubicBezTo>
                <a:cubicBezTo>
                  <a:pt x="154" y="1581"/>
                  <a:pt x="216" y="1667"/>
                  <a:pt x="258" y="1735"/>
                </a:cubicBezTo>
                <a:cubicBezTo>
                  <a:pt x="300" y="1803"/>
                  <a:pt x="320" y="1816"/>
                  <a:pt x="336" y="1837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43120" y="2314440"/>
            <a:ext cx="533520" cy="2928960"/>
          </a:xfrm>
          <a:custGeom>
            <a:avLst/>
            <a:gdLst/>
            <a:ahLst/>
            <a:rect l="l" t="t" r="r" b="b"/>
            <a:pathLst>
              <a:path w="336" h="1845">
                <a:moveTo>
                  <a:pt x="9" y="0"/>
                </a:moveTo>
                <a:cubicBezTo>
                  <a:pt x="43" y="56"/>
                  <a:pt x="146" y="179"/>
                  <a:pt x="215" y="336"/>
                </a:cubicBezTo>
                <a:cubicBezTo>
                  <a:pt x="284" y="493"/>
                  <a:pt x="336" y="745"/>
                  <a:pt x="334" y="929"/>
                </a:cubicBezTo>
                <a:cubicBezTo>
                  <a:pt x="332" y="1113"/>
                  <a:pt x="282" y="1317"/>
                  <a:pt x="232" y="1453"/>
                </a:cubicBezTo>
                <a:cubicBezTo>
                  <a:pt x="182" y="1589"/>
                  <a:pt x="120" y="1675"/>
                  <a:pt x="78" y="1743"/>
                </a:cubicBezTo>
                <a:cubicBezTo>
                  <a:pt x="36" y="1811"/>
                  <a:pt x="16" y="1824"/>
                  <a:pt x="0" y="184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4560" y="2997360"/>
            <a:ext cx="3085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ing half the length each side of the “X” ax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21040" y="2349360"/>
            <a:ext cx="965160" cy="1435320"/>
          </a:xfrm>
          <a:custGeom>
            <a:avLst/>
            <a:gdLst/>
            <a:ahLst/>
            <a:rect l="l" t="t" r="r" b="b"/>
            <a:pathLst>
              <a:path w="608" h="904">
                <a:moveTo>
                  <a:pt x="0" y="904"/>
                </a:moveTo>
                <a:lnTo>
                  <a:pt x="608" y="448"/>
                </a:lnTo>
                <a:lnTo>
                  <a:pt x="0" y="0"/>
                </a:lnTo>
                <a:lnTo>
                  <a:pt x="480" y="440"/>
                </a:lnTo>
                <a:lnTo>
                  <a:pt x="0" y="90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22480" y="3798720"/>
            <a:ext cx="965160" cy="1435320"/>
          </a:xfrm>
          <a:custGeom>
            <a:avLst/>
            <a:gdLst/>
            <a:ahLst/>
            <a:rect l="l" t="t" r="r" b="b"/>
            <a:pathLst>
              <a:path w="608" h="904">
                <a:moveTo>
                  <a:pt x="0" y="904"/>
                </a:moveTo>
                <a:lnTo>
                  <a:pt x="608" y="448"/>
                </a:lnTo>
                <a:lnTo>
                  <a:pt x="0" y="0"/>
                </a:lnTo>
                <a:lnTo>
                  <a:pt x="480" y="440"/>
                </a:lnTo>
                <a:lnTo>
                  <a:pt x="0" y="90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8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408640" y="1409760"/>
            <a:ext cx="319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. Set a compass to the “Y” radius and describ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2376360"/>
            <a:ext cx="31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. Set a compass the “X” radius and describ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08440" y="2349360"/>
            <a:ext cx="1130040" cy="1435320"/>
          </a:xfrm>
          <a:custGeom>
            <a:avLst/>
            <a:gdLst/>
            <a:ahLst/>
            <a:rect l="l" t="t" r="r" b="b"/>
            <a:pathLst>
              <a:path w="712" h="904">
                <a:moveTo>
                  <a:pt x="8" y="0"/>
                </a:moveTo>
                <a:lnTo>
                  <a:pt x="712" y="448"/>
                </a:lnTo>
                <a:lnTo>
                  <a:pt x="0" y="904"/>
                </a:lnTo>
                <a:lnTo>
                  <a:pt x="560" y="448"/>
                </a:lnTo>
                <a:lnTo>
                  <a:pt x="8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1040" y="3784680"/>
            <a:ext cx="2070000" cy="1015920"/>
          </a:xfrm>
          <a:custGeom>
            <a:avLst/>
            <a:gdLst/>
            <a:ahLst/>
            <a:rect l="l" t="t" r="r" b="b"/>
            <a:pathLst>
              <a:path w="1304" h="640">
                <a:moveTo>
                  <a:pt x="0" y="0"/>
                </a:moveTo>
                <a:lnTo>
                  <a:pt x="632" y="640"/>
                </a:lnTo>
                <a:lnTo>
                  <a:pt x="1304" y="0"/>
                </a:lnTo>
                <a:lnTo>
                  <a:pt x="648" y="496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1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373040"/>
            <a:ext cx="319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. using set squares break the circle up into 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46360" y="1828800"/>
            <a:ext cx="2317680" cy="401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5640" y="1422360"/>
            <a:ext cx="1282680" cy="4786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6280" y="2590920"/>
            <a:ext cx="4179960" cy="241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753840" y="3187800"/>
            <a:ext cx="4452840" cy="119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11560" y="1473120"/>
            <a:ext cx="1307880" cy="488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89120" y="1650960"/>
            <a:ext cx="2662200" cy="461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03320" y="1879560"/>
            <a:ext cx="3733920" cy="3733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960" y="2527200"/>
            <a:ext cx="4884840" cy="2819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149640"/>
            <a:ext cx="4976640" cy="133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57120" y="2031840"/>
            <a:ext cx="3429000" cy="3429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097600" y="360684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378936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91040" y="368136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4760" y="3610080"/>
            <a:ext cx="6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58960" y="367200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0760" y="367344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21040" y="1587600"/>
            <a:ext cx="0" cy="459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060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521964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68760" y="1282680"/>
            <a:ext cx="4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57600" y="617364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040" y="1714680"/>
            <a:ext cx="4140000" cy="4140000"/>
          </a:xfrm>
          <a:prstGeom prst="ellipse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0520" y="2349360"/>
            <a:ext cx="2921040" cy="28702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746360" y="1828800"/>
            <a:ext cx="2317680" cy="401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285640" y="1422360"/>
            <a:ext cx="1282680" cy="4786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6280" y="2590920"/>
            <a:ext cx="4179960" cy="241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53840" y="3187800"/>
            <a:ext cx="4452840" cy="119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11560" y="1473120"/>
            <a:ext cx="1307880" cy="488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89120" y="1650960"/>
            <a:ext cx="2662200" cy="46101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03320" y="1879560"/>
            <a:ext cx="3733920" cy="3733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960" y="2527200"/>
            <a:ext cx="4884840" cy="2819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149640"/>
            <a:ext cx="4976640" cy="133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257120" y="2031840"/>
            <a:ext cx="3429000" cy="3429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11880" y="1641600"/>
            <a:ext cx="31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. Using set squares measure out and down from the circle intersecting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89320" y="2400480"/>
            <a:ext cx="216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7160" y="1778040"/>
            <a:ext cx="0" cy="654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30800" y="3429000"/>
            <a:ext cx="619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24440" y="3263760"/>
            <a:ext cx="0" cy="196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8160" y="2765520"/>
            <a:ext cx="0" cy="342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84640" y="3070080"/>
            <a:ext cx="6001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49560" y="2765520"/>
            <a:ext cx="463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87680" y="2327400"/>
            <a:ext cx="0" cy="4633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5400" y="2000160"/>
            <a:ext cx="0" cy="568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1120" y="254304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90760" y="1781280"/>
            <a:ext cx="0" cy="6411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52240" y="2397240"/>
            <a:ext cx="2034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86040" y="1990800"/>
            <a:ext cx="0" cy="64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860480" y="2536920"/>
            <a:ext cx="339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50800" y="2330280"/>
            <a:ext cx="0" cy="48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406160" y="2771640"/>
            <a:ext cx="485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23920" y="275904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73160" y="306396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27348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79120" y="3432240"/>
            <a:ext cx="6253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403360" y="5151240"/>
            <a:ext cx="0" cy="663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359080" y="5176800"/>
            <a:ext cx="203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898640" y="4960440"/>
            <a:ext cx="0" cy="6447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873080" y="5037120"/>
            <a:ext cx="3398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463760" y="4779720"/>
            <a:ext cx="0" cy="485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419120" y="4815000"/>
            <a:ext cx="4860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136520" y="441180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085760" y="452916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27000" y="412272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892080" y="4176720"/>
            <a:ext cx="625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68600" y="5144760"/>
            <a:ext cx="0" cy="6634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00480" y="5170320"/>
            <a:ext cx="203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949560" y="4959360"/>
            <a:ext cx="0" cy="644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45000" y="5035680"/>
            <a:ext cx="33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70400" y="4773240"/>
            <a:ext cx="0" cy="485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38760" y="4818240"/>
            <a:ext cx="4856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07000" y="4405320"/>
            <a:ext cx="0" cy="4190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76720" y="4513320"/>
            <a:ext cx="58104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16520" y="4130640"/>
            <a:ext cx="0" cy="209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21080" y="4179960"/>
            <a:ext cx="6256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6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90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0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2000"/>
                            </p:stCondLst>
                            <p:childTnLst>
                              <p:par>
                                <p:cTn id="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1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74760" y="1282680"/>
            <a:ext cx="5059080" cy="5259240"/>
            <a:chOff x="374760" y="1282680"/>
            <a:chExt cx="5059080" cy="5259240"/>
          </a:xfrm>
        </p:grpSpPr>
        <p:sp>
          <p:nvSpPr>
            <p:cNvPr id="181" name=""/>
            <p:cNvSpPr/>
            <p:nvPr/>
          </p:nvSpPr>
          <p:spPr>
            <a:xfrm>
              <a:off x="684360" y="378936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91040" y="368136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4760" y="361008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8960" y="367200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00760" y="36734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21040" y="1587600"/>
              <a:ext cx="0" cy="45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30600" y="2349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43200" y="521964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68760" y="128268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57600" y="61736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51040" y="1714680"/>
              <a:ext cx="4140000" cy="414000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349360"/>
              <a:ext cx="2921040" cy="28702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746360" y="1828800"/>
              <a:ext cx="2317680" cy="4013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85640" y="1422360"/>
              <a:ext cx="1282680" cy="478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36280" y="2590920"/>
              <a:ext cx="4179960" cy="241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53840" y="3187800"/>
              <a:ext cx="4452840" cy="1193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11560" y="1473120"/>
              <a:ext cx="1307880" cy="488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9120" y="1650960"/>
              <a:ext cx="2662200" cy="4610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03320" y="1879560"/>
              <a:ext cx="3733920" cy="3733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3149640"/>
              <a:ext cx="4976640" cy="1333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257120" y="2031840"/>
              <a:ext cx="342900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89320" y="24004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67160" y="1778040"/>
              <a:ext cx="0" cy="654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30800" y="3429000"/>
              <a:ext cx="619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24440" y="3263760"/>
              <a:ext cx="0" cy="196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18160" y="2765520"/>
              <a:ext cx="0" cy="342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84640" y="3070080"/>
              <a:ext cx="600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49560" y="2765520"/>
              <a:ext cx="463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87680" y="2327400"/>
              <a:ext cx="0" cy="463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5400" y="2000160"/>
              <a:ext cx="0" cy="568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51120" y="2543040"/>
              <a:ext cx="35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0760" y="1781280"/>
              <a:ext cx="0" cy="641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2352240" y="2397240"/>
              <a:ext cx="2034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86040" y="199080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860480" y="253692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50800" y="2330280"/>
              <a:ext cx="0" cy="486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406160" y="277164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23920" y="275904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73160" y="306396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27348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879120" y="3432240"/>
              <a:ext cx="625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403360" y="515124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359080" y="517680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898640" y="4960440"/>
              <a:ext cx="0" cy="64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873080" y="503712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463760" y="477972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419120" y="4815000"/>
              <a:ext cx="48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136520" y="441180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085760" y="452916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927000" y="412272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92080" y="417672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468600" y="514476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00480" y="517032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949560" y="495936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45000" y="5035680"/>
              <a:ext cx="339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70400" y="477324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38760" y="481824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707000" y="440532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76720" y="451332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916520" y="413064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21080" y="417996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5475240" y="1679400"/>
            <a:ext cx="31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8. Mark a line joining the intersecting points to form the 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7160" y="233676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855720" y="377820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932200" y="233532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35440" y="378144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554040" y="1461960"/>
            <a:ext cx="5059080" cy="5259240"/>
            <a:chOff x="554040" y="1461960"/>
            <a:chExt cx="5059080" cy="5259240"/>
          </a:xfrm>
        </p:grpSpPr>
        <p:sp>
          <p:nvSpPr>
            <p:cNvPr id="249" name=""/>
            <p:cNvSpPr/>
            <p:nvPr/>
          </p:nvSpPr>
          <p:spPr>
            <a:xfrm>
              <a:off x="863640" y="3968640"/>
              <a:ext cx="44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70320" y="386064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4040" y="378936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8240" y="385128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0040" y="3852720"/>
              <a:ext cx="0" cy="23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00320" y="1766880"/>
              <a:ext cx="0" cy="45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09880" y="2528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2480" y="5398920"/>
              <a:ext cx="36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48040" y="1461960"/>
              <a:ext cx="40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6880" y="635292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30320" y="1893960"/>
              <a:ext cx="4140000" cy="414000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39800" y="2528640"/>
              <a:ext cx="2921040" cy="287028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25640" y="2008080"/>
              <a:ext cx="2317680" cy="4013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464920" y="1601640"/>
              <a:ext cx="1282680" cy="478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015560" y="2770200"/>
              <a:ext cx="4179960" cy="241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933120" y="3367080"/>
              <a:ext cx="4452840" cy="1193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90840" y="1652400"/>
              <a:ext cx="1307880" cy="488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8400" y="1830240"/>
              <a:ext cx="2662200" cy="4610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82600" y="2058840"/>
              <a:ext cx="3733920" cy="3733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6480" y="3328920"/>
              <a:ext cx="4976640" cy="1333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436400" y="2211120"/>
              <a:ext cx="342900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68600" y="25797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46440" y="1957320"/>
              <a:ext cx="0" cy="6541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10080" y="3608280"/>
              <a:ext cx="619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3720" y="3443040"/>
              <a:ext cx="0" cy="196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97440" y="2944800"/>
              <a:ext cx="0" cy="3427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63920" y="3249360"/>
              <a:ext cx="6001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28840" y="2944800"/>
              <a:ext cx="463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566960" y="2506680"/>
              <a:ext cx="0" cy="4633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44680" y="2179440"/>
              <a:ext cx="0" cy="568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30400" y="2722320"/>
              <a:ext cx="358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70040" y="1960560"/>
              <a:ext cx="0" cy="6411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531520" y="2576520"/>
              <a:ext cx="2034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65320" y="217008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2039760" y="271620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30080" y="2509560"/>
              <a:ext cx="0" cy="4860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585440" y="295092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03200" y="293832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252440" y="324324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3680" y="345276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058400" y="3611520"/>
              <a:ext cx="6253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82640" y="533052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538360" y="535608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077920" y="5139720"/>
              <a:ext cx="0" cy="64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052360" y="5216400"/>
              <a:ext cx="3398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643040" y="495900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598400" y="4994280"/>
              <a:ext cx="4860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315800" y="459108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1265040" y="470844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106280" y="430200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071360" y="435600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647880" y="5324040"/>
              <a:ext cx="0" cy="663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479760" y="5349600"/>
              <a:ext cx="203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128840" y="5138640"/>
              <a:ext cx="0" cy="644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24280" y="5214960"/>
              <a:ext cx="3394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4549680" y="4952520"/>
              <a:ext cx="0" cy="4856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8040" y="4997520"/>
              <a:ext cx="4856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886280" y="4584600"/>
              <a:ext cx="0" cy="4190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56000" y="4692600"/>
              <a:ext cx="58104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095800" y="4309920"/>
              <a:ext cx="0" cy="2095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00360" y="4359240"/>
              <a:ext cx="62568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099120" y="2709720"/>
            <a:ext cx="25336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e have now created the an ellipse using the concentric circle meth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ry the exercises found at the Shopfitting wikispace at the URL below to perfect your techni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year1shopfitting.wikispaces.com/Ge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36800" y="2516040"/>
            <a:ext cx="206352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035000" y="3956760"/>
            <a:ext cx="2063880" cy="144972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110760" y="251460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114000" y="3960720"/>
            <a:ext cx="2063880" cy="1449360"/>
          </a:xfrm>
          <a:custGeom>
            <a:avLst/>
            <a:gdLst/>
            <a:ahLst/>
            <a:rect l="l" t="t" r="r" b="b"/>
            <a:pathLst>
              <a:path w="1300" h="913">
                <a:moveTo>
                  <a:pt x="1300" y="0"/>
                </a:moveTo>
                <a:cubicBezTo>
                  <a:pt x="1248" y="4"/>
                  <a:pt x="1103" y="3"/>
                  <a:pt x="990" y="25"/>
                </a:cubicBezTo>
                <a:cubicBezTo>
                  <a:pt x="877" y="47"/>
                  <a:pt x="744" y="76"/>
                  <a:pt x="621" y="133"/>
                </a:cubicBezTo>
                <a:cubicBezTo>
                  <a:pt x="448" y="196"/>
                  <a:pt x="324" y="301"/>
                  <a:pt x="249" y="370"/>
                </a:cubicBezTo>
                <a:cubicBezTo>
                  <a:pt x="174" y="439"/>
                  <a:pt x="134" y="498"/>
                  <a:pt x="96" y="559"/>
                </a:cubicBezTo>
                <a:cubicBezTo>
                  <a:pt x="58" y="620"/>
                  <a:pt x="34" y="677"/>
                  <a:pt x="18" y="736"/>
                </a:cubicBezTo>
                <a:cubicBezTo>
                  <a:pt x="2" y="795"/>
                  <a:pt x="4" y="876"/>
                  <a:pt x="0" y="91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404640"/>
            <a:ext cx="8486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lipse - Concentric Circle Metho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6" name=""/>
          <p:cNvSpPr/>
          <p:nvPr/>
        </p:nvSpPr>
        <p:spPr>
          <a:xfrm>
            <a:off x="1031760" y="2517840"/>
            <a:ext cx="4149720" cy="2892240"/>
          </a:xfrm>
          <a:prstGeom prst="ellipse">
            <a:avLst/>
          </a:prstGeom>
          <a:gradFill rotWithShape="0">
            <a:gsLst>
              <a:gs pos="0">
                <a:srgbClr val="6d2934"/>
              </a:gs>
              <a:gs pos="50000">
                <a:srgbClr val="ed5972"/>
              </a:gs>
              <a:gs pos="100000">
                <a:srgbClr val="6d2934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0:11:15Z</dcterms:created>
  <dc:creator>gcheetham</dc:creator>
  <dc:description/>
  <dc:language>en-US</dc:language>
  <cp:lastModifiedBy>gcheetham</cp:lastModifiedBy>
  <dcterms:modified xsi:type="dcterms:W3CDTF">2007-10-30T01:36:00Z</dcterms:modified>
  <cp:revision>6</cp:revision>
  <dc:subject/>
  <dc:title>Slide 1</dc:title>
</cp:coreProperties>
</file>